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682538" cy="7131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244BE-32BC-4E65-B978-95CE61415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644B61-758E-4ECD-B872-70B97C201C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  <a:ea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2886D8-1984-4613-B889-581EECC7EE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419C70-E9D8-4F94-88A5-D63E61FE15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ADE7C-819E-4A81-A5AA-AB5E5695B2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F07FAD-9F80-4FDC-8BC8-4B7E58A0B2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1FC503-666A-4B23-8B33-AEC8C26F68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7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A9B17C-E474-4EBA-9D20-C0E236F866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AB4A8-F527-4734-A0BA-3B4561CA2F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C2B9-8438-4FB7-9204-027A13C8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B797-9250-4A1B-B184-3A351C75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C24A-F933-494D-84C0-2101EF06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948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6776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20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6948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6776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7982-1D6B-44E7-AB88-E4F60704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F1C7-1EF3-4A87-9FC6-B7C091E9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327C-823C-4627-9792-F86FCEB4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810C-B1DA-47DE-A587-B249C0EF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F58F-3CCB-4507-8B19-B5107A83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1200" y="379440"/>
            <a:ext cx="1093788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7128-53FF-4442-9273-DF972B1E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290E-E326-4247-8E76-B9B51976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25E3-E468-4E29-B623-86B2009E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58E1-3ADB-4D03-A76F-ECA665B7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118728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66356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156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00120" y="6610320"/>
            <a:ext cx="428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5680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691939-BE25-4283-A8D2-1F137A69517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39800" y="3133800"/>
            <a:ext cx="971388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800" spc="-1" strike="noStrike">
                <a:solidFill>
                  <a:srgbClr val="ffffff"/>
                </a:solidFill>
                <a:latin typeface="Trebuchet MS"/>
              </a:rPr>
              <a:t>RANA DETEKCIJA</a:t>
            </a:r>
            <a:br>
              <a:rPr sz="4800"/>
            </a:br>
            <a:r>
              <a:rPr b="1" lang="sr-Latn-CS" sz="4800" spc="-1" strike="noStrike">
                <a:solidFill>
                  <a:srgbClr val="ffffff"/>
                </a:solidFill>
                <a:latin typeface="Trebuchet MS"/>
              </a:rPr>
              <a:t>KARIJESA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340000" y="54799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DOC. DR RA</a:t>
            </a:r>
            <a:r>
              <a:rPr b="1" lang="sr-Latn-RS" sz="3100" spc="-1" strike="noStrike">
                <a:solidFill>
                  <a:srgbClr val="f9a12a"/>
                </a:solidFill>
                <a:latin typeface="Trebuchet MS"/>
              </a:rPr>
              <a:t>Š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A </a:t>
            </a:r>
            <a:r>
              <a:rPr b="1" lang="en-US" sz="3100" spc="-1" strike="noStrike">
                <a:solidFill>
                  <a:srgbClr val="f9a12a"/>
                </a:solidFill>
                <a:latin typeface="Trebuchet MS"/>
              </a:rPr>
              <a:t>J. 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MLADENOVIĆ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683720" y="2957400"/>
            <a:ext cx="609840" cy="2324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292400" y="317520"/>
            <a:ext cx="106693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FAKULTET MEDICINSKIH NAUKA</a:t>
            </a:r>
            <a:br>
              <a:rPr sz="3100"/>
            </a:b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UNIVERZITET U KRAGUJEVCU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00120" y="1504800"/>
            <a:ext cx="971712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PREVENTIVNA</a:t>
            </a:r>
            <a:r>
              <a:rPr b="1" lang="en-US" sz="3600" spc="-1" strike="noStrike">
                <a:solidFill>
                  <a:srgbClr val="f9a12a"/>
                </a:solidFill>
                <a:latin typeface="Trebuchet MS"/>
              </a:rPr>
              <a:t> STOMATOLOGIJ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340000" y="61657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MMXXI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539720" y="1814400"/>
            <a:ext cx="1219320" cy="1003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: Rounded Corners 8"/>
          <p:cNvSpPr/>
          <p:nvPr/>
        </p:nvSpPr>
        <p:spPr>
          <a:xfrm>
            <a:off x="10683720" y="138240"/>
            <a:ext cx="1219320" cy="990360"/>
          </a:xfrm>
          <a:prstGeom prst="roundRect">
            <a:avLst>
              <a:gd name="adj" fmla="val 16667"/>
            </a:avLst>
          </a:prstGeom>
          <a:solidFill>
            <a:srgbClr val="f45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5400" spc="-1" strike="noStrike">
                <a:solidFill>
                  <a:srgbClr val="000000"/>
                </a:solidFill>
                <a:latin typeface="Trebuchet MS"/>
              </a:rPr>
              <a:t>07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30240" y="2214720"/>
            <a:ext cx="601992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Uočavaju s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500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8f8f8"/>
                </a:solidFill>
                <a:latin typeface="Trebuchet MS"/>
              </a:rPr>
              <a:t>Pigmentac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500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8f8f8"/>
                </a:solidFill>
                <a:latin typeface="Trebuchet MS"/>
              </a:rPr>
              <a:t>Gubitak sjajnog izgled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500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8f8f8"/>
                </a:solidFill>
                <a:latin typeface="Trebuchet MS"/>
              </a:rPr>
              <a:t>Pojava neprozirnost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01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VIZUELNO-TAKTILNI METOD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4"/>
          <p:cNvGrpSpPr/>
          <p:nvPr/>
        </p:nvGrpSpPr>
        <p:grpSpPr>
          <a:xfrm>
            <a:off x="1768320" y="3243240"/>
            <a:ext cx="2870280" cy="2873520"/>
            <a:chOff x="1768320" y="3243240"/>
            <a:chExt cx="2870280" cy="2873520"/>
          </a:xfrm>
        </p:grpSpPr>
        <p:sp>
          <p:nvSpPr>
            <p:cNvPr id="59" name="AutoShape 59"/>
            <p:cNvSpPr/>
            <p:nvPr/>
          </p:nvSpPr>
          <p:spPr>
            <a:xfrm>
              <a:off x="1784160" y="4174920"/>
              <a:ext cx="2819880" cy="499680"/>
            </a:xfrm>
            <a:prstGeom prst="roundRect">
              <a:avLst>
                <a:gd name="adj" fmla="val 50000"/>
              </a:avLst>
            </a:prstGeom>
            <a:solidFill>
              <a:srgbClr val="2e98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MLEČNA DENTICIJA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" name="AutoShape 59"/>
            <p:cNvSpPr/>
            <p:nvPr/>
          </p:nvSpPr>
          <p:spPr>
            <a:xfrm>
              <a:off x="1768320" y="4896000"/>
              <a:ext cx="2819880" cy="499680"/>
            </a:xfrm>
            <a:prstGeom prst="roundRect">
              <a:avLst>
                <a:gd name="adj" fmla="val 50000"/>
              </a:avLst>
            </a:prstGeom>
            <a:solidFill>
              <a:srgbClr val="2e98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MEŠOVITA DENTICIJA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" name="AutoShape 59"/>
            <p:cNvSpPr/>
            <p:nvPr/>
          </p:nvSpPr>
          <p:spPr>
            <a:xfrm>
              <a:off x="1784160" y="5617080"/>
              <a:ext cx="2819880" cy="499680"/>
            </a:xfrm>
            <a:prstGeom prst="roundRect">
              <a:avLst>
                <a:gd name="adj" fmla="val 50000"/>
              </a:avLst>
            </a:prstGeom>
            <a:solidFill>
              <a:srgbClr val="2e98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STALNA DENTICIJA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AutoShape 59"/>
            <p:cNvSpPr/>
            <p:nvPr/>
          </p:nvSpPr>
          <p:spPr>
            <a:xfrm>
              <a:off x="1818720" y="3243240"/>
              <a:ext cx="2819880" cy="663480"/>
            </a:xfrm>
            <a:prstGeom prst="roundRect">
              <a:avLst>
                <a:gd name="adj" fmla="val 50000"/>
              </a:avLst>
            </a:prstGeom>
            <a:solidFill>
              <a:srgbClr val="2e98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KONTROLNI SNIMCI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3" name="Group 2"/>
          <p:cNvGrpSpPr/>
          <p:nvPr/>
        </p:nvGrpSpPr>
        <p:grpSpPr>
          <a:xfrm>
            <a:off x="4984920" y="3246480"/>
            <a:ext cx="2835000" cy="2884320"/>
            <a:chOff x="4984920" y="3246480"/>
            <a:chExt cx="2835000" cy="2884320"/>
          </a:xfrm>
        </p:grpSpPr>
        <p:sp>
          <p:nvSpPr>
            <p:cNvPr id="64" name="AutoShape 59"/>
            <p:cNvSpPr/>
            <p:nvPr/>
          </p:nvSpPr>
          <p:spPr>
            <a:xfrm>
              <a:off x="4984920" y="3246480"/>
              <a:ext cx="2819160" cy="66312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NIZAK RIZIK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AutoShape 59"/>
            <p:cNvSpPr/>
            <p:nvPr/>
          </p:nvSpPr>
          <p:spPr>
            <a:xfrm>
              <a:off x="5000760" y="4188600"/>
              <a:ext cx="2819160" cy="50004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NA 12-24 MESECA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AutoShape 59"/>
            <p:cNvSpPr/>
            <p:nvPr/>
          </p:nvSpPr>
          <p:spPr>
            <a:xfrm>
              <a:off x="4984920" y="4909680"/>
              <a:ext cx="2819160" cy="50004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NA 12-24 MESECA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AutoShape 59"/>
            <p:cNvSpPr/>
            <p:nvPr/>
          </p:nvSpPr>
          <p:spPr>
            <a:xfrm>
              <a:off x="5000760" y="5630760"/>
              <a:ext cx="2819160" cy="50004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NA 18-36 MESECA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8" name="Group 3"/>
          <p:cNvGrpSpPr/>
          <p:nvPr/>
        </p:nvGrpSpPr>
        <p:grpSpPr>
          <a:xfrm>
            <a:off x="8342280" y="3243240"/>
            <a:ext cx="2835360" cy="2884680"/>
            <a:chOff x="8342280" y="3243240"/>
            <a:chExt cx="2835360" cy="2884680"/>
          </a:xfrm>
        </p:grpSpPr>
        <p:sp>
          <p:nvSpPr>
            <p:cNvPr id="69" name="AutoShape 59"/>
            <p:cNvSpPr/>
            <p:nvPr/>
          </p:nvSpPr>
          <p:spPr>
            <a:xfrm>
              <a:off x="8358120" y="3243240"/>
              <a:ext cx="2819520" cy="666720"/>
            </a:xfrm>
            <a:prstGeom prst="roundRect">
              <a:avLst>
                <a:gd name="adj" fmla="val 50000"/>
              </a:avLst>
            </a:prstGeom>
            <a:solidFill>
              <a:srgbClr val="f45e4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KOD VISOKOG RIZIKA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AutoShape 59"/>
            <p:cNvSpPr/>
            <p:nvPr/>
          </p:nvSpPr>
          <p:spPr>
            <a:xfrm>
              <a:off x="8358120" y="4185360"/>
              <a:ext cx="2819520" cy="500040"/>
            </a:xfrm>
            <a:prstGeom prst="roundRect">
              <a:avLst>
                <a:gd name="adj" fmla="val 50000"/>
              </a:avLst>
            </a:prstGeom>
            <a:solidFill>
              <a:srgbClr val="f45e4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NA 6 MESECI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AutoShape 59"/>
            <p:cNvSpPr/>
            <p:nvPr/>
          </p:nvSpPr>
          <p:spPr>
            <a:xfrm>
              <a:off x="8342280" y="4906800"/>
              <a:ext cx="2819520" cy="500040"/>
            </a:xfrm>
            <a:prstGeom prst="roundRect">
              <a:avLst>
                <a:gd name="adj" fmla="val 50000"/>
              </a:avLst>
            </a:prstGeom>
            <a:solidFill>
              <a:srgbClr val="f45e4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NA 6 MESECI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AutoShape 59"/>
            <p:cNvSpPr/>
            <p:nvPr/>
          </p:nvSpPr>
          <p:spPr>
            <a:xfrm>
              <a:off x="8358120" y="5627880"/>
              <a:ext cx="2819520" cy="500040"/>
            </a:xfrm>
            <a:prstGeom prst="roundRect">
              <a:avLst>
                <a:gd name="adj" fmla="val 50000"/>
              </a:avLst>
            </a:prstGeom>
            <a:solidFill>
              <a:srgbClr val="f45e4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NA 6-12 MESECI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3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RETROKORONARNI SNIMAK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234800" y="1793880"/>
            <a:ext cx="10443960" cy="12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200" spc="-1" strike="noStrike">
                <a:solidFill>
                  <a:srgbClr val="f9a12a"/>
                </a:solidFill>
                <a:latin typeface="Trebuchet MS"/>
              </a:rPr>
              <a:t>Obavezno pomoćno dijagnostičko sredstvo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Oval 21"/>
          <p:cNvSpPr/>
          <p:nvPr/>
        </p:nvSpPr>
        <p:spPr>
          <a:xfrm>
            <a:off x="10002960" y="3789360"/>
            <a:ext cx="1676160" cy="1676520"/>
          </a:xfrm>
          <a:prstGeom prst="ellipse">
            <a:avLst/>
          </a:prstGeom>
          <a:solidFill>
            <a:srgbClr val="f45e44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24" repeatCount="5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DIGITALNA RADIOGRAF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234800" y="1952640"/>
            <a:ext cx="1044396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200" spc="-1" strike="noStrike">
                <a:solidFill>
                  <a:srgbClr val="f9a12a"/>
                </a:solidFill>
                <a:latin typeface="Trebuchet MS"/>
              </a:rPr>
              <a:t>Smanjuje vreme eksponiranja zračenj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200" spc="-1" strike="noStrike">
                <a:solidFill>
                  <a:srgbClr val="f9a12a"/>
                </a:solidFill>
                <a:latin typeface="Trebuchet MS"/>
              </a:rPr>
              <a:t>Eliminiše se proces razvijanja, a kontrast i jasnoća mogu se podešavat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FOTI / DIFOTI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197000" y="2119320"/>
            <a:ext cx="415296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Transluminacija optičkim vlaknima – FOT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Figital imaging FOTI - DIFOT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QLF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197000" y="2119320"/>
            <a:ext cx="461016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6800" indent="-22680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200" spc="-1" strike="noStrike">
                <a:solidFill>
                  <a:srgbClr val="f9a12a"/>
                </a:solidFill>
                <a:latin typeface="Trebuchet MS"/>
              </a:rPr>
              <a:t>Quantitative Light-Induced Fluorescence je uređaj pomoću koga se karijes detektuje primenom fluorescencij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26800" indent="-22680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200" spc="-1" strike="noStrike">
                <a:solidFill>
                  <a:srgbClr val="f9a12a"/>
                </a:solidFill>
                <a:latin typeface="Trebuchet MS"/>
              </a:rPr>
              <a:t>Vidljivo svetlo TD 370n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26800" indent="-22680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200" spc="-1" strike="noStrike">
                <a:solidFill>
                  <a:srgbClr val="f9a12a"/>
                </a:solidFill>
                <a:latin typeface="Trebuchet MS"/>
              </a:rPr>
              <a:t>Filter TD 540n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26800" indent="-22680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197000" y="2058480"/>
            <a:ext cx="582912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Intaktna gleđ je loš provodni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Kod početne lezije formiraju se porozne zone koje ispunjavaju vodom i sa jonima iz pljuvačke čine osnovne puteve električnog provođenj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28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ELEKTRONSKI DETEKTOR KARIJES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197000" y="2058480"/>
            <a:ext cx="582912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7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200" spc="-1" strike="noStrike">
                <a:solidFill>
                  <a:srgbClr val="f9a12a"/>
                </a:solidFill>
                <a:latin typeface="Trebuchet MS"/>
              </a:rPr>
              <a:t>Dijagnostika karijesa metodom laserske fluorescencije zasnovan je na merenju fluorescencij ezuba koja je indukovana svetlosnom iradijacijom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7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200" spc="-1" strike="noStrike">
                <a:solidFill>
                  <a:srgbClr val="f9a12a"/>
                </a:solidFill>
                <a:latin typeface="Trebuchet MS"/>
              </a:rPr>
              <a:t>Diagnodent je uređaj koji meri fluorescenciju koju daju bakterijski produkti (najčešće porfirin) unutar karijesne lezije, a ne gubitak intekriteta kristalne rešetke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7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200" spc="-1" strike="noStrike">
                <a:solidFill>
                  <a:srgbClr val="f9a12a"/>
                </a:solidFill>
                <a:latin typeface="Trebuchet MS"/>
              </a:rPr>
              <a:t>Emisija svetlosti koja kada dođe u kontakt sa promenom izaziva fluorescentnu svetlost druge talasne dužine koji aparat registruje na dipleju kao brojčanu vrednost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7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200" spc="-1" strike="noStrike">
                <a:solidFill>
                  <a:srgbClr val="f9a12a"/>
                </a:solidFill>
                <a:latin typeface="Trebuchet MS"/>
              </a:rPr>
              <a:t>Pre upotrebe neophodna je brza kalibracija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7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Rectangle 28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LASER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196640" y="2058480"/>
            <a:ext cx="1028844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2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000" spc="-1" strike="noStrike">
                <a:solidFill>
                  <a:srgbClr val="f9a12a"/>
                </a:solidFill>
                <a:latin typeface="Trebuchet MS"/>
              </a:rPr>
              <a:t>Vazdušna abrazij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2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000" spc="-1" strike="noStrike">
                <a:solidFill>
                  <a:srgbClr val="f9a12a"/>
                </a:solidFill>
                <a:latin typeface="Trebuchet MS"/>
              </a:rPr>
              <a:t>Uzimanje otiska aproksimalnih površin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2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000" spc="-1" strike="noStrike">
                <a:solidFill>
                  <a:srgbClr val="f9a12a"/>
                </a:solidFill>
                <a:latin typeface="Trebuchet MS"/>
              </a:rPr>
              <a:t>Aplikacija ortodonskih gumica interdentalno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2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000" spc="-1" strike="noStrike">
                <a:solidFill>
                  <a:srgbClr val="f9a12a"/>
                </a:solidFill>
                <a:latin typeface="Trebuchet MS"/>
              </a:rPr>
              <a:t>Termo i elektrotest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OSTALE METOD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1:47:34Z</dcterms:created>
  <dc:creator>Rale</dc:creator>
  <dc:description/>
  <dc:language>en-US</dc:language>
  <cp:lastModifiedBy>kompjuterash</cp:lastModifiedBy>
  <dcterms:modified xsi:type="dcterms:W3CDTF">2023-02-17T17:24:13Z</dcterms:modified>
  <cp:revision>542</cp:revision>
  <dc:subject/>
  <dc:title>RTG U DEČJOJ STOMATOLOGIJI</dc:title>
</cp:coreProperties>
</file>